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255-00E0-43B8-95A2-6CE6933C93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6DEF-53E9-46A4-A6A7-9874D5592010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3A8-BFFC-434A-8596-7B7F6DCB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724-C41C-4DA9-8775-BC88B2ED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980B8-F11D-4944-9A06-AEBC273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5E8A9-D863-4C78-9C5E-76BAA7F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22B1C-77A7-4D50-86A6-CCA50D7B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8EBD-2BBA-45D6-803F-DEC61AD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AC449-688A-41A1-8E1B-6B7118B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05159-BC1E-4012-BA35-3886102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0AF27-B006-40E7-9C20-29FCE70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F2C8F-E616-40F0-B4D7-AFFCDB35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65AD-1015-412D-A672-B92CC44A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F9EC1-6BD0-47B8-9128-26FA808C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4E9-B34A-4282-AF10-E00FF01E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4AD00-6918-4C27-A862-1D5967A4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773E0-8F2A-4209-9574-2347C61E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1F34-6D68-4575-A1FC-7D43AF4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1A202-E63A-4130-889C-1280F79E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EDE79-9AE0-414D-BBE9-CA75F7A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7928F-575B-4C1F-A803-9B6DFAE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3C81A-C933-4638-85EE-E1749A6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6F59B-4447-45C2-BD34-C286592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41081-6E2C-4873-8E12-D891860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59E7-0082-4201-88C9-950FF538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17F-815E-4617-9564-C61B9E50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C44CA-E50D-4E1C-9FAB-D6FB4C83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FA1C-A4BC-4741-BA24-7BE49120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C20DD-DAE7-4992-80BB-31EA28CB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FF68-D794-4D72-B0C7-DBDB2F6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639C2-33F5-4D34-85FE-5646C233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11F8-2E09-481F-9F76-B24320A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95B25-286D-4982-88F4-D525D7F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0D2AE-C42C-46B8-99CB-BC6A45F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58209-D1A2-49F1-B56B-73017F5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6DC75-61A5-4521-B97C-4D46FB8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CB4-0165-4A5E-B5E9-C24DC7A1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5289-A9C1-44DA-872C-28C5EE9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E992C-DBD8-447C-8F84-DB67C85D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01BA3-995F-4610-9CBC-9D74E77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5D2B8-C1A2-43D8-8829-222827D0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6C22B-960F-4257-A7C4-5013C28C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06F97-13D2-40EB-8B20-D5D0DF0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145C5-DD79-41E5-9FE6-6464D60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AB372-94D7-4040-9390-1B6B62D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4229F-13F1-4A79-8C5A-A80F3A6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25187-43C4-4BA5-8C53-90516C4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A0BA-C581-4C87-8C65-217E872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D62CA-C74F-41BF-9530-B4635B5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A7154-9A77-4109-BC9D-35A3E84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97648-A0D1-4611-8EEF-C30F10FA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5C89-5685-4021-842C-B8F5BE4E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A2C4-7469-4602-9E34-86282B06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F3A5-F59F-43D2-AADF-BA0F134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48D4-14DF-4DBD-80D0-A5CDE36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BB32-D043-4D76-B0B7-C518113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1136-72B8-4BAE-801F-BDD99A41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108-626F-430C-9823-6C027AD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287-9112-4C44-8586-B7C531F2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981A-C811-4953-8865-54F7520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BF6-71D7-4856-81B2-EFBD47B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2E34-97AC-47EB-AE25-120E4E2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DEA-231B-4282-ABE4-10C79895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6DEC-E4EE-498F-BB8D-31F829F4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7E30-AF95-4370-87C9-C9E82519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00B3-B922-4679-9C9B-C5B71009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2A61-5C3F-4D97-BF36-BA980D9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56B2-2ADC-489B-BC68-E079E1A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AEC7-8CE5-403D-A4F5-CFD4607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EFC-A97E-47AE-BFF6-A7738FF2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6BE7-1A86-48B9-848D-A7F6297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EB5-1E23-49CF-BDD6-360299E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FB14-B43A-4B5D-8A5E-654E3D4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58A8-4E7B-40E6-9C73-C77A364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1773-AFDB-43A4-A444-D9CC70A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F982-DC08-4111-8734-4A2C561C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A6B3-E03C-45FC-A741-D9610B4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CB62-012A-4A72-A23C-4C29FB7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BB1F-B505-4277-862D-714BC9A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6DCD-4E73-4C2F-818F-0A0CD3C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B84-51EF-4FBF-B73D-43FB846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51D1-1E79-4AD7-A02A-3376FE1A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F1AE-0289-4FE0-B966-90119156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A8E9-B8E6-4686-BE17-358BBF6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C22B-1BB9-47C2-A78E-C0F5F6A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A0CE-B0A2-4DDD-88EF-7D037BF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1E84-D3BF-4637-AD05-CD509B3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0C48-6940-46FD-AA1D-CEDDFC3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AE96-A45C-433A-A717-D31CEEF5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EE76-BAA1-4FDF-A0AB-5C6E0DE3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9C2C-6611-4BA6-9A22-214DC1BD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A34-8C83-4735-960E-44CCCB0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1EE7-B8C8-48B3-8F61-7C6BB42D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1BEA-8BCD-489A-BA57-FA3FDC4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9009-A52D-4D68-936D-D4BD43C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D700-63B0-4523-B2B7-51028D8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DE1C-77F0-40B3-B3EC-B2D0F25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ABA9-6890-4ACB-AE18-2045450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688C-268B-4867-86E7-D46522F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433B-5E61-4FB3-87C9-EB9A0FB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BE14-0ED3-42C1-92F8-BD39578C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FB75-6DE0-4EC2-82C9-4419E105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ABE-C2FB-4C0C-BD34-7BA7E98C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56DA-0D49-42A2-B9E1-BD5C423D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27C4-9279-4490-AE34-BC493003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E687-8F8E-4D09-BDDE-C418D6E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7307-C8A7-4199-9057-9750289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B3DD-5254-46A2-89E7-CC87043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3D17-755E-4D2E-A267-F942987C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9BD7-54C5-4C1D-9D09-A2EBBFCD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71A8-C3F5-4249-994D-D7CC1C7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45D9-5620-4D19-9F8C-EBF8151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DDFD-FDA4-473B-9B9C-4902D24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A76-7062-469B-B925-18B3D37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D27B-18CB-45EB-8C98-9CEE1B6B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EC76-1C9B-4B64-BB4C-AF8B757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7A01-4666-4A98-8E8A-82F5ED35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FE06-9E85-4719-8689-1C8B8841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103B-D1B5-4A9B-A45E-52AA082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CABC-9B5D-4358-9595-77C2CFB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E2E2-D722-486B-A501-726888F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6CA1-75A1-4158-8BD7-0103423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A465-2359-4696-9A48-83BA9A89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B769-FF45-4038-993E-698EB55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8D5-0CB7-465A-841A-D873C70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26BAE-A3B1-4A97-8229-C751023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5776-7110-4937-8296-B126EDB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4B976-1AFF-4767-A149-1DA8B7D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70FA-116D-48BE-B07A-505D5CBA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F72A-CE06-4212-B5C8-484BAA52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3AF1-E901-4BFE-8DC9-3CDF39AD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35A43-040F-4A9C-88CC-218FA053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5374-1DBA-4F44-BF0B-1CF30895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EE89-4BA5-4886-90C2-288C1E4B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E7B0E-82AD-460D-9A7B-683868A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FDC-BBE3-469D-9F74-B80C55A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1FEC-6B10-429C-9BEB-00CEC44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6363-42D4-4F87-89B9-03AFB8A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0FA9-4D40-4CF8-B9F2-9332A54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F4FB8-0795-4E85-B78E-088401E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DFF7-4BAB-4B08-83E3-4066F80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43BC2-0E05-4F97-AE11-09942D76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9112-A8E4-4C4F-B507-C6F5B69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E24FC-79FF-4933-856B-D7F41784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B8894-A977-40E4-A573-68CC0C86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FD149-01FE-4653-957C-BC843F6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C5C-A88A-4491-9F7B-8A54CF124F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992160" y="762120"/>
            <a:ext cx="8151840" cy="609588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1077840" y="849240"/>
            <a:ext cx="7996320" cy="594036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0" y="4921200"/>
            <a:ext cx="990720" cy="196056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0" y="4824360"/>
            <a:ext cx="990720" cy="4464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Line 64"/>
          <p:cNvSpPr/>
          <p:nvPr/>
        </p:nvSpPr>
        <p:spPr>
          <a:xfrm>
            <a:off x="4680" y="45864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" name="Line 6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Line 68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Line 69"/>
          <p:cNvSpPr/>
          <p:nvPr/>
        </p:nvSpPr>
        <p:spPr>
          <a:xfrm>
            <a:off x="4680" y="50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Line 70"/>
          <p:cNvSpPr/>
          <p:nvPr/>
        </p:nvSpPr>
        <p:spPr>
          <a:xfrm>
            <a:off x="4680" y="27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Line 71"/>
          <p:cNvSpPr/>
          <p:nvPr/>
        </p:nvSpPr>
        <p:spPr>
          <a:xfrm>
            <a:off x="4680" y="32400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Line 73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Line 75"/>
          <p:cNvSpPr/>
          <p:nvPr/>
        </p:nvSpPr>
        <p:spPr>
          <a:xfrm>
            <a:off x="4680" y="414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Line 7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Line 78"/>
          <p:cNvSpPr/>
          <p:nvPr/>
        </p:nvSpPr>
        <p:spPr>
          <a:xfrm>
            <a:off x="4680" y="368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Line 79"/>
          <p:cNvSpPr/>
          <p:nvPr/>
        </p:nvSpPr>
        <p:spPr>
          <a:xfrm>
            <a:off x="4680" y="23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Line 80"/>
          <p:cNvSpPr/>
          <p:nvPr/>
        </p:nvSpPr>
        <p:spPr>
          <a:xfrm>
            <a:off x="880920" y="45864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Line 81"/>
          <p:cNvSpPr/>
          <p:nvPr/>
        </p:nvSpPr>
        <p:spPr>
          <a:xfrm>
            <a:off x="880920" y="50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Line 82"/>
          <p:cNvSpPr/>
          <p:nvPr/>
        </p:nvSpPr>
        <p:spPr>
          <a:xfrm>
            <a:off x="880920" y="27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Line 83"/>
          <p:cNvSpPr/>
          <p:nvPr/>
        </p:nvSpPr>
        <p:spPr>
          <a:xfrm>
            <a:off x="880920" y="32400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Line 85"/>
          <p:cNvSpPr/>
          <p:nvPr/>
        </p:nvSpPr>
        <p:spPr>
          <a:xfrm>
            <a:off x="880920" y="414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Line 86"/>
          <p:cNvSpPr/>
          <p:nvPr/>
        </p:nvSpPr>
        <p:spPr>
          <a:xfrm>
            <a:off x="880920" y="54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Line 87"/>
          <p:cNvSpPr/>
          <p:nvPr/>
        </p:nvSpPr>
        <p:spPr>
          <a:xfrm>
            <a:off x="880920" y="368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Line 88"/>
          <p:cNvSpPr/>
          <p:nvPr/>
        </p:nvSpPr>
        <p:spPr>
          <a:xfrm>
            <a:off x="880920" y="23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CE1D-A8C7-4C33-AB74-519013F5CF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623-D34B-4BF0-9C97-9511CBE61A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99B-5EAF-4B43-9AE4-18B3CE1B06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85B-832C-4748-B22F-E2779890EA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D1A-B229-4121-A4F2-0073D0C956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EF69-D87F-46D1-93ED-755A15C959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E4E-B3A9-4C52-8E63-FEBF0494CE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428-C25B-49D2-B237-CF4BE5A233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225-811B-4A4A-93FA-915553F69E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50C2-99D0-48A5-8A3D-569D215612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A574-2C1F-48AA-B46D-7A81480B9F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5200" y="1125000"/>
            <a:ext cx="8848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РЕЗЕНТАЦИЯ ПРОЕКТ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«____________________________________________________________________________________________________»</a:t>
            </a:r>
            <a:br>
              <a:rPr sz="28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9" name="Прямоугольник 2"/>
          <p:cNvSpPr/>
          <p:nvPr/>
        </p:nvSpPr>
        <p:spPr>
          <a:xfrm>
            <a:off x="887400" y="4653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втор(ы)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__________________________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9472-FD94-4A02-9683-636A3A95950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58" name="Таблица 2" descr=""/>
          <p:cNvPicPr/>
          <p:nvPr/>
        </p:nvPicPr>
        <p:blipFill>
          <a:blip r:embed="rId1"/>
          <a:stretch/>
        </p:blipFill>
        <p:spPr>
          <a:xfrm>
            <a:off x="324000" y="738360"/>
            <a:ext cx="8570880" cy="427824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1258920" y="90792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Команда проекта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0" name="Прямая соединительная линия 5"/>
          <p:cNvSpPr/>
          <p:nvPr/>
        </p:nvSpPr>
        <p:spPr>
          <a:xfrm>
            <a:off x="395280" y="738360"/>
            <a:ext cx="2232000" cy="161100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511560" y="1844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Работы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2" name="Прямоугольник 8"/>
          <p:cNvSpPr/>
          <p:nvPr/>
        </p:nvSpPr>
        <p:spPr>
          <a:xfrm>
            <a:off x="324000" y="535788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Обозначения: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О- 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ответственный,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В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выполня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И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информир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С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соглас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У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утверждает;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К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контролир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М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осуществляет мониторинг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МАТРИЦА ОТВЕТСТВЕН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6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091-FC5A-43B2-BD42-1579A93AF81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писание ситуации «Как Есть»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179280" y="76500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Тезисное описание  и параметров в соответствующей области до начала реализации проекта, желательно дополнительное размещение изображений, графиков и таблиц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395280" y="19177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A101-F48B-4F8B-923D-E96C57BBC51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287280" y="7650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Georgia"/>
              </a:rPr>
              <a:t>Тезисное описание измененных параметров и ситуации в соответствующей области после окончания проекта, желательно дополнительное размещение изображений, графиков и таблиц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95280" y="19065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писание ситуации «Как Будет»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FAD-A87A-4F8D-82A2-5E93C1B9D5A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9280" y="692280"/>
          <a:ext cx="8496360" cy="5906880"/>
        </p:xfrm>
        <a:graphic>
          <a:graphicData uri="http://schemas.openxmlformats.org/drawingml/2006/table">
            <a:tbl>
              <a:tblPr/>
              <a:tblGrid>
                <a:gridCol w="2081160"/>
                <a:gridCol w="6415200"/>
              </a:tblGrid>
              <a:tr h="194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Цель проекта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Цель, которую необходимо достичь по факту окончания проекта.  Цель направляется на пользователей проекта и должна быть: конкретная и понятная; – измеримая (содержать цифры); достижимая; в зоне ответственности и влияния команды проекта на 100%; определена на указанную в цели дату окончания проекта.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езультат проекта: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Имущественный либо неимущественный результат, который должен быть достигнут по факту достижения цели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ребования к результату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Требования к результату проекта, которые будут учитываться при определении достижения данных результатов. Определяют качественные характеристики результата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ользователи результата проекта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Круг потребителей (область применения) результатов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ЦЕЛИ И РЕЗУЛЬТА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324000" y="907920"/>
          <a:ext cx="8712000" cy="5185080"/>
        </p:xfrm>
        <a:graphic>
          <a:graphicData uri="http://schemas.openxmlformats.org/drawingml/2006/table">
            <a:tbl>
              <a:tblPr/>
              <a:tblGrid>
                <a:gridCol w="457200"/>
                <a:gridCol w="6252840"/>
                <a:gridCol w="1052640"/>
                <a:gridCol w="949320"/>
              </a:tblGrid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оциальн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хват сотрудников (студентов) социальными благами за 1 год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Участие сотрудников (студентов) в мероприятиях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учно-исследовательская (учебная) 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студентов, охваченных образовательной программо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планируемых патентов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научных статей (материалов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Экономическ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Годовой объем выручк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Годовой объем прибыл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ентабельность инвестици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%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рок окупаемости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5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бъем инвестиций в основной капитал ВУЗа в рамках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ные показател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Прямоугольник 6"/>
          <p:cNvSpPr/>
          <p:nvPr/>
        </p:nvSpPr>
        <p:spPr>
          <a:xfrm>
            <a:off x="1332000" y="6459480"/>
            <a:ext cx="69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</a:rPr>
              <a:t>*  Рассчитывается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ПОКАЗАТЕЛИ ЭФФЕКТИВ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4C49-FA59-4EA5-A8DC-AE74B24C333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8000" y="836640"/>
          <a:ext cx="8785080" cy="5483160"/>
        </p:xfrm>
        <a:graphic>
          <a:graphicData uri="http://schemas.openxmlformats.org/drawingml/2006/table">
            <a:tbl>
              <a:tblPr/>
              <a:tblGrid>
                <a:gridCol w="439560"/>
                <a:gridCol w="1511280"/>
                <a:gridCol w="895320"/>
                <a:gridCol w="976320"/>
                <a:gridCol w="890640"/>
                <a:gridCol w="254160"/>
                <a:gridCol w="253800"/>
                <a:gridCol w="255600"/>
                <a:gridCol w="254160"/>
                <a:gridCol w="255600"/>
                <a:gridCol w="253800"/>
                <a:gridCol w="252720"/>
                <a:gridCol w="255600"/>
                <a:gridCol w="253800"/>
                <a:gridCol w="255600"/>
                <a:gridCol w="254160"/>
                <a:gridCol w="253800"/>
                <a:gridCol w="255600"/>
                <a:gridCol w="254160"/>
                <a:gridCol w="255600"/>
                <a:gridCol w="253800"/>
              </a:tblGrid>
              <a:tr h="599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лит-ть, дн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чал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ата окончания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5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6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7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8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9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0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201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TextBox 5"/>
          <p:cNvSpPr/>
          <p:nvPr/>
        </p:nvSpPr>
        <p:spPr>
          <a:xfrm>
            <a:off x="1258920" y="631980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34"/>
                </a:solidFill>
                <a:latin typeface="Georgia"/>
              </a:rPr>
              <a:t>* - завершенные блоки работ  закрашиваются зеленым цветом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СНОВНЫЕ БЛОКИ РАБО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A75-98AE-47A5-86AC-577CF18D5F6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50920" y="920880"/>
          <a:ext cx="8642160" cy="4182840"/>
        </p:xfrm>
        <a:graphic>
          <a:graphicData uri="http://schemas.openxmlformats.org/drawingml/2006/table">
            <a:tbl>
              <a:tblPr/>
              <a:tblGrid>
                <a:gridCol w="444240"/>
                <a:gridCol w="3635640"/>
                <a:gridCol w="960480"/>
                <a:gridCol w="1180800"/>
                <a:gridCol w="739800"/>
                <a:gridCol w="932040"/>
                <a:gridCol w="74916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ривлеч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Вне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Указываются наименования основных блоков работ проекта,  (повторяются с предыдущего слайда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БЮДЖЕ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067-E4AB-4E89-9FE3-65B49AB1FD4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39640" y="836640"/>
          <a:ext cx="8496360" cy="4968720"/>
        </p:xfrm>
        <a:graphic>
          <a:graphicData uri="http://schemas.openxmlformats.org/drawingml/2006/table">
            <a:tbl>
              <a:tblPr/>
              <a:tblGrid>
                <a:gridCol w="347760"/>
                <a:gridCol w="1671480"/>
                <a:gridCol w="1652760"/>
                <a:gridCol w="2805120"/>
                <a:gridCol w="2019240"/>
              </a:tblGrid>
              <a:tr h="106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иск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жидаемые последствия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Мероприятия по предупреждению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ействия в случае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писание события, которое может оказать влияние на реализацию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писание последствий для проекта, возникших в результате наступления собы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еречень мероприятий, направленных на предотвращение наступления события (в дальнейшем данные мероприятия должны найти отражение в контрольных событиях, основных блоках работ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еречень мероприятий, предпринимаемых в случае  наступления собы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Заголовок 1"/>
          <p:cNvSpPr/>
          <p:nvPr/>
        </p:nvSpPr>
        <p:spPr>
          <a:xfrm>
            <a:off x="539640" y="44280"/>
            <a:ext cx="828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РИСКИ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3D7-1C4D-42E2-B25D-CABC9823932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836640"/>
          <a:ext cx="8856720" cy="4680000"/>
        </p:xfrm>
        <a:graphic>
          <a:graphicData uri="http://schemas.openxmlformats.org/drawingml/2006/table">
            <a:tbl>
              <a:tblPr/>
              <a:tblGrid>
                <a:gridCol w="435240"/>
                <a:gridCol w="2903400"/>
                <a:gridCol w="2614680"/>
                <a:gridCol w="2903400"/>
              </a:tblGrid>
              <a:tr h="744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№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Роль в проекте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Куратор  проекта (проректор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</a:t>
                      </a: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одрядчи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8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Экспер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КОМАНДА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4:03:02Z</dcterms:created>
  <dc:creator>Admin</dc:creator>
  <dc:description/>
  <dc:language>en-US</dc:language>
  <cp:lastModifiedBy>User</cp:lastModifiedBy>
  <cp:lastPrinted>2001-08-23T14:02:36Z</cp:lastPrinted>
  <dcterms:modified xsi:type="dcterms:W3CDTF">2015-03-03T11:57:49Z</dcterms:modified>
  <cp:revision>1676</cp:revision>
  <dc:subject/>
  <dc:title>Презентация PowerPoint</dc:title>
</cp:coreProperties>
</file>