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3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3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3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5781-9EA8-4CBF-8F61-CCB84815E3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Номер слайда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A806-271D-4552-B739-42BD34D4C009}" type="slidenum">
              <a:rPr b="0" lang="ru-RU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3CD-8895-42B1-826D-F3E9999E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2A99-AFC0-4432-93B4-8C2AA3C5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DAAF0-B940-44D0-A92A-119C94C9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6C523-2C7E-4C81-A3EC-1086F876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14423-67B8-456D-A3C1-37566FA5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C9B4E-468A-4A6E-A9F5-4B5B2E28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6167D-1BD6-4602-A43A-0C9C40E9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8053C-5F4D-40C0-943C-DAE0B0E1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831A3-D25E-459B-B651-E1890D71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24741-50DB-42FE-B162-236A6BAC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F22EA-9335-4D04-8B63-22140844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78D5E-AB5E-4C03-A733-731E180C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F38-ECE0-4DC5-8919-8B1048A5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B4740-3F1B-48D9-877F-B12663F8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ABF0B-1277-407D-98B5-22B885E8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FF8B6-C65C-4A9B-B9CE-948F4786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F6C98-BE99-4877-94A6-23B2DBA3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C7998-7EA3-4AFC-A6EA-A998891F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EF116-144F-4847-B4E0-7A97A77E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3E704-09E0-410F-9EF4-DB09EBC0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27D7A-9050-4C69-A978-1789AE1A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F5BF0-43C9-416A-8F16-D8AA30BF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FFADC-30AA-43D4-A720-D93B8552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918-2ACF-4807-ABBC-108C84D7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2A5C5-2579-4A18-BA02-E19258B9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44D5C-9834-40B8-B324-C8A41ED6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19F67-BA2E-4306-9909-E4FA29A1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7687D-0268-42F0-9452-AC741A46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D77CF-A332-4A63-9788-47941BA4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43AAD-DE25-4446-8854-64BCFF16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42292-CCC6-4FDD-BF3E-0EA20162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B1F17-6F48-4EAE-A71F-CCC0B14E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D0F40-0227-4422-8ABC-A66FAE49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F1C4B-0D8C-4AEC-824F-43D2FAA1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1510-4B94-4BDB-8E1A-EA0318DF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F35BC-F666-4B2B-9410-3D4A36AC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27A77-9190-4939-A0FF-3FD66221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5734C-B96F-41AF-962C-F9FFFE78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D5F86-D6B9-4134-8BC8-7799913B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D0FA6-21BC-44DB-ABED-D6ABA0A6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52767-19E8-4A74-BF52-0DC95E6D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CBECA-54C6-441B-8BA0-84105028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A24B5-AF19-461D-87E4-40FE4892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C3A69-83BD-4820-8101-CFAD815B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2EC3A-DFED-4ABB-956B-91D04E30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D58B-BE6F-43AB-8F5F-D53D737F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E0F2C-0AB1-48A6-8938-31640C0A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34CE3-7DF7-47F1-A4F7-8E92F95C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5E7BA-6591-48E9-A0DC-6597DED4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64F5E-EC05-4704-A475-3BB9639F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AA804-5E8B-425F-B7A6-5831C968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2678-76F8-4F5F-B299-C2799BDF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D420-A07A-4168-AA41-1CF91FFD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76D2-107C-4367-9B67-E4FEED35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8D3A-558D-436A-BA60-A25D8862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BF0C-16ED-42B1-84FE-DF4D1FF5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2ED-DCDE-41A9-921C-29124CE9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BFC4-6DFB-47D4-BBCF-DFA0B590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8F75-D5D2-463C-AC1F-1DAA6012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B595-B1A9-4560-B4C9-A7915335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79EF-A794-4830-9F16-F963BA20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70DD-04B8-442C-B5AC-40139EF9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0747-11D5-4291-82B7-0CAC1395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23F6A-6D2C-443D-A6EF-4DDFCC07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2025-34A8-4605-B06C-F28829B1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9362B-29BF-4DA3-A8AC-1F90F417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1D06F-CB29-405A-A557-1ECCA8B7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437-B121-4781-A608-67412D89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2230A-981A-4A5C-8BC4-BEA33082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E0AF-7622-467B-B023-A6BE46BA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1159-A0DC-43F3-BE35-260D800D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62A45-8C26-4245-BD7A-E47AD4F0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8E5FC-6B09-4D96-A88C-81166237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E4111-ACDA-4C66-BD32-17A164B6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5BA4-6122-4D6B-8742-864F31D2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A8A92-79B7-468F-BDB1-A3D370FC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48620-2924-48ED-A2C0-02E75050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FFA31-0B2C-4F30-8844-8F3249A8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732-6A27-4916-87EA-B1186BF5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B59CD-2731-4A2A-B6DE-04775985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D0B9C-071D-4F96-8F8F-1327D912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ECFDB-C5B8-432B-9089-BD241029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9A2A0-3277-495A-BB76-BEE401EA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28AB0-5868-4616-9092-25DE537C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2740D-1D26-4DC9-BB6E-62C77D2A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58A59-9BB4-4631-B1F8-A8EE65FB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53D52-12B9-4246-A7BF-F1ECE70B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8D424-1211-4663-8107-E0B5F5B6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E29DD-CC7D-4B7D-9C76-4D99E735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94E-3FDC-4E69-9DCF-D91EF81F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27A6A-3E70-4D27-84F5-6037E8C6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5E9C6-3767-4369-8DA6-4B1B3C9D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25347-9A26-4B56-BAAD-3098F840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C79EB-977C-4D10-A103-FC136D70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6E5C9-B4DE-40CC-9C59-9A9F22B7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A8AFC-1AE8-4376-A986-E02C2F39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060F5-ACE7-45B0-87FB-DFAF0240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CF2BE-65F6-4ED0-B076-5AF5277A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0D15C-3631-4A94-80C6-CF036032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9E560-E348-47B1-9375-F6125B24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056-26FD-450C-B929-1D53073B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6130C-C8CB-497A-8D3B-47DE4F97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92757-3562-4526-82E5-388E9942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3CF8F-B16C-4070-8625-9D02547B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AC8F0-7142-429E-BD8B-53811ED9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71492-6097-4F20-A1F3-F17D85DA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24BED-692C-4B92-97CA-4E980E92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418F1-0676-444F-8A33-FE6C9687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BD65C-2ED1-416D-A2C3-263FDF54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58284-692C-463F-8531-E89E89C9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6D6E1-0B23-4A9B-96FF-D80C3475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0E4-90FD-4869-A968-0A4F594D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E199D-9591-4228-B4DE-DC31ABED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3EAEB-1BA9-44BE-9C84-7D7CE52B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95A37-4B3D-4FA0-BA04-B3089F38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78E8E-1D22-4B49-8D7C-961B5EE9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55000-B880-4526-A7E4-CF50FAA1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4015A-C4F8-4CFE-8710-0360139F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48C65-21B0-4592-A106-67A8C49F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9D7C8-24C2-4742-A00D-57FF08D3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D4262-1DDB-42C3-AD92-0E954AC0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7846B-65CF-4C1B-B1B9-7CE45D31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BE1-407A-4E2C-8F1F-697A28D6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24FA9-8E9F-4673-9540-1DA7CD18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94EF4-7A26-428A-A64B-BB5B151A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C17D6-1074-4EAC-85BE-10818046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32715-9F14-4D20-A9B1-B3A2B06B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DEBC8-6DCD-48F3-83B7-611967D3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3C4F6-D5E7-46C4-98A7-A8C82400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41DDC-4E4C-4EED-BD35-6B3D1091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13D45-1F57-453A-B1AA-4E8EA526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47A6B-7414-45DB-8DED-7665D4DF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515CA-86D8-4495-80DD-CBDC24A3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118-A629-4298-BAFB-16CF0DB3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672B2-7F94-4A0B-9CB6-E5C2A15F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FD241-9137-4107-A4CB-7FC8542A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77CC8-A33B-4133-9452-7145239C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75A5F-48D1-4546-BA36-55083FFA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8A1B2-05DD-4ACD-AB40-2C550056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94810-53F4-4936-B416-A29F5246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99F34-7CB8-4A1B-AF01-0A8A33AE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CD690-7BE3-4831-95BD-21018518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0F636-3E9D-46A8-B3B0-7C120C4A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96EE7-728C-4AE1-9EF8-939332DA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1CE4-1AE3-4827-B532-5F07C037A97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992160" y="762120"/>
            <a:ext cx="8151840" cy="6095880"/>
          </a:xfrm>
          <a:prstGeom prst="rect">
            <a:avLst/>
          </a:prstGeom>
          <a:solidFill>
            <a:srgbClr val="eaf1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1077840" y="849240"/>
            <a:ext cx="7996320" cy="5940360"/>
          </a:xfrm>
          <a:prstGeom prst="rect">
            <a:avLst/>
          </a:prstGeom>
          <a:solidFill>
            <a:srgbClr val="eaf1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Rectangle 16"/>
          <p:cNvSpPr/>
          <p:nvPr/>
        </p:nvSpPr>
        <p:spPr>
          <a:xfrm>
            <a:off x="0" y="4921200"/>
            <a:ext cx="990720" cy="1960560"/>
          </a:xfrm>
          <a:prstGeom prst="rect">
            <a:avLst/>
          </a:pr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" name="Rectangle 17"/>
          <p:cNvSpPr/>
          <p:nvPr/>
        </p:nvSpPr>
        <p:spPr>
          <a:xfrm>
            <a:off x="0" y="4824360"/>
            <a:ext cx="990720" cy="44640"/>
          </a:xfrm>
          <a:prstGeom prst="rect">
            <a:avLst/>
          </a:pr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" name="Line 64"/>
          <p:cNvSpPr/>
          <p:nvPr/>
        </p:nvSpPr>
        <p:spPr>
          <a:xfrm>
            <a:off x="4680" y="45864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" name="Line 67"/>
          <p:cNvSpPr/>
          <p:nvPr/>
        </p:nvSpPr>
        <p:spPr>
          <a:xfrm>
            <a:off x="4680" y="54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Line 68"/>
          <p:cNvSpPr/>
          <p:nvPr/>
        </p:nvSpPr>
        <p:spPr>
          <a:xfrm>
            <a:off x="4680" y="54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" name="Line 69"/>
          <p:cNvSpPr/>
          <p:nvPr/>
        </p:nvSpPr>
        <p:spPr>
          <a:xfrm>
            <a:off x="4680" y="50328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" name="Line 70"/>
          <p:cNvSpPr/>
          <p:nvPr/>
        </p:nvSpPr>
        <p:spPr>
          <a:xfrm>
            <a:off x="4680" y="27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" name="Line 71"/>
          <p:cNvSpPr/>
          <p:nvPr/>
        </p:nvSpPr>
        <p:spPr>
          <a:xfrm>
            <a:off x="4680" y="32400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" name="Line 73"/>
          <p:cNvSpPr/>
          <p:nvPr/>
        </p:nvSpPr>
        <p:spPr>
          <a:xfrm>
            <a:off x="4680" y="54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Line 75"/>
          <p:cNvSpPr/>
          <p:nvPr/>
        </p:nvSpPr>
        <p:spPr>
          <a:xfrm>
            <a:off x="4680" y="414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Line 77"/>
          <p:cNvSpPr/>
          <p:nvPr/>
        </p:nvSpPr>
        <p:spPr>
          <a:xfrm>
            <a:off x="4680" y="54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" name="Line 78"/>
          <p:cNvSpPr/>
          <p:nvPr/>
        </p:nvSpPr>
        <p:spPr>
          <a:xfrm>
            <a:off x="4680" y="36828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" name="Line 79"/>
          <p:cNvSpPr/>
          <p:nvPr/>
        </p:nvSpPr>
        <p:spPr>
          <a:xfrm>
            <a:off x="4680" y="23328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Line 80"/>
          <p:cNvSpPr/>
          <p:nvPr/>
        </p:nvSpPr>
        <p:spPr>
          <a:xfrm>
            <a:off x="880920" y="45864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Line 81"/>
          <p:cNvSpPr/>
          <p:nvPr/>
        </p:nvSpPr>
        <p:spPr>
          <a:xfrm>
            <a:off x="880920" y="50328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" name="Line 82"/>
          <p:cNvSpPr/>
          <p:nvPr/>
        </p:nvSpPr>
        <p:spPr>
          <a:xfrm>
            <a:off x="880920" y="27936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" name="Line 83"/>
          <p:cNvSpPr/>
          <p:nvPr/>
        </p:nvSpPr>
        <p:spPr>
          <a:xfrm>
            <a:off x="880920" y="32400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Line 85"/>
          <p:cNvSpPr/>
          <p:nvPr/>
        </p:nvSpPr>
        <p:spPr>
          <a:xfrm>
            <a:off x="880920" y="41436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Line 86"/>
          <p:cNvSpPr/>
          <p:nvPr/>
        </p:nvSpPr>
        <p:spPr>
          <a:xfrm>
            <a:off x="880920" y="54936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" name="Line 87"/>
          <p:cNvSpPr/>
          <p:nvPr/>
        </p:nvSpPr>
        <p:spPr>
          <a:xfrm>
            <a:off x="880920" y="36828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" name="Line 88"/>
          <p:cNvSpPr/>
          <p:nvPr/>
        </p:nvSpPr>
        <p:spPr>
          <a:xfrm>
            <a:off x="880920" y="23328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62CC-0266-48C6-B2A8-3603260C0CC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6EC7-DF90-4AE2-81DD-F79EDCA929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84F3-95EF-441E-ADE6-4067E813369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12B6-5CAE-40C0-8B0A-266AD72880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FB98-5844-4592-9D00-5E6B2B4C93E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E19D-7C5C-4B91-B2BF-6AE0B6BD80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8E08-EA52-4118-AD69-A5006B08810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AC24-1B94-45F5-A78B-8EDE60C5021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7CDD-2222-41EC-8827-77D32EE070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A4DF-CEBA-4A6C-B5AB-B75D2A981F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06E9-A47C-46B6-A15E-E918AA00708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95200" y="1125000"/>
            <a:ext cx="8848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ПРЕЗЕНТАЦИЯ ПРОЕКТА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«____________________________________________________________________________________________________»</a:t>
            </a:r>
            <a:br>
              <a:rPr sz="28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9" name="Прямоугольник 2"/>
          <p:cNvSpPr/>
          <p:nvPr/>
        </p:nvSpPr>
        <p:spPr>
          <a:xfrm>
            <a:off x="887400" y="465300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Автор(ы)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__________________________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__________________________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__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CD1C-F189-4B20-B3D7-FFB26AA3BB2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558" name="Таблица 2" descr=""/>
          <p:cNvPicPr/>
          <p:nvPr/>
        </p:nvPicPr>
        <p:blipFill>
          <a:blip r:embed="rId1"/>
          <a:stretch/>
        </p:blipFill>
        <p:spPr>
          <a:xfrm>
            <a:off x="324000" y="738360"/>
            <a:ext cx="8570880" cy="4278240"/>
          </a:xfrm>
          <a:prstGeom prst="rect">
            <a:avLst/>
          </a:prstGeom>
          <a:ln w="0">
            <a:noFill/>
          </a:ln>
        </p:spPr>
      </p:pic>
      <p:sp>
        <p:nvSpPr>
          <p:cNvPr id="559" name="TextBox 4"/>
          <p:cNvSpPr/>
          <p:nvPr/>
        </p:nvSpPr>
        <p:spPr>
          <a:xfrm>
            <a:off x="1258920" y="90792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34"/>
                </a:solidFill>
                <a:latin typeface="Arial"/>
              </a:rPr>
              <a:t>Команда проекта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0" name="Прямая соединительная линия 5"/>
          <p:cNvSpPr/>
          <p:nvPr/>
        </p:nvSpPr>
        <p:spPr>
          <a:xfrm>
            <a:off x="395280" y="738360"/>
            <a:ext cx="2232000" cy="1611000"/>
          </a:xfrm>
          <a:prstGeom prst="line">
            <a:avLst/>
          </a:prstGeom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1" name="TextBox 7"/>
          <p:cNvSpPr/>
          <p:nvPr/>
        </p:nvSpPr>
        <p:spPr>
          <a:xfrm>
            <a:off x="511560" y="184464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34"/>
                </a:solidFill>
                <a:latin typeface="Arial"/>
              </a:rPr>
              <a:t>Работы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2" name="Прямоугольник 8"/>
          <p:cNvSpPr/>
          <p:nvPr/>
        </p:nvSpPr>
        <p:spPr>
          <a:xfrm>
            <a:off x="324000" y="5357880"/>
            <a:ext cx="864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34"/>
                </a:solidFill>
                <a:latin typeface="Georgia"/>
              </a:rPr>
              <a:t>Обозначения: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34"/>
                </a:solidFill>
                <a:latin typeface="Georgia"/>
              </a:rPr>
              <a:t>О- </a:t>
            </a:r>
            <a:r>
              <a:rPr b="0" lang="ru-RU" sz="1400" spc="-1" strike="noStrike">
                <a:solidFill>
                  <a:srgbClr val="292934"/>
                </a:solidFill>
                <a:latin typeface="Georgia"/>
              </a:rPr>
              <a:t>ответственный, </a:t>
            </a:r>
            <a:r>
              <a:rPr b="1" lang="ru-RU" sz="1400" spc="-1" strike="noStrike">
                <a:solidFill>
                  <a:srgbClr val="292934"/>
                </a:solidFill>
                <a:latin typeface="Georgia"/>
              </a:rPr>
              <a:t>В</a:t>
            </a:r>
            <a:r>
              <a:rPr b="0" lang="ru-RU" sz="1400" spc="-1" strike="noStrike">
                <a:solidFill>
                  <a:srgbClr val="292934"/>
                </a:solidFill>
                <a:latin typeface="Georgia"/>
              </a:rPr>
              <a:t> – выполняет; </a:t>
            </a:r>
            <a:r>
              <a:rPr b="1" lang="ru-RU" sz="1400" spc="-1" strike="noStrike">
                <a:solidFill>
                  <a:srgbClr val="292934"/>
                </a:solidFill>
                <a:latin typeface="Georgia"/>
              </a:rPr>
              <a:t>И</a:t>
            </a:r>
            <a:r>
              <a:rPr b="0" lang="ru-RU" sz="1400" spc="-1" strike="noStrike">
                <a:solidFill>
                  <a:srgbClr val="292934"/>
                </a:solidFill>
                <a:latin typeface="Georgia"/>
              </a:rPr>
              <a:t> – информирует; </a:t>
            </a:r>
            <a:r>
              <a:rPr b="1" lang="ru-RU" sz="1400" spc="-1" strike="noStrike">
                <a:solidFill>
                  <a:srgbClr val="292934"/>
                </a:solidFill>
                <a:latin typeface="Georgia"/>
              </a:rPr>
              <a:t>С</a:t>
            </a:r>
            <a:r>
              <a:rPr b="0" lang="ru-RU" sz="1400" spc="-1" strike="noStrike">
                <a:solidFill>
                  <a:srgbClr val="292934"/>
                </a:solidFill>
                <a:latin typeface="Georgia"/>
              </a:rPr>
              <a:t> – согласует; </a:t>
            </a:r>
            <a:r>
              <a:rPr b="1" lang="ru-RU" sz="1400" spc="-1" strike="noStrike">
                <a:solidFill>
                  <a:srgbClr val="292934"/>
                </a:solidFill>
                <a:latin typeface="Georgia"/>
              </a:rPr>
              <a:t>У</a:t>
            </a:r>
            <a:r>
              <a:rPr b="0" lang="ru-RU" sz="1400" spc="-1" strike="noStrike">
                <a:solidFill>
                  <a:srgbClr val="292934"/>
                </a:solidFill>
                <a:latin typeface="Georgia"/>
              </a:rPr>
              <a:t> – утверждает;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34"/>
                </a:solidFill>
                <a:latin typeface="Georgia"/>
              </a:rPr>
              <a:t>К</a:t>
            </a:r>
            <a:r>
              <a:rPr b="0" lang="ru-RU" sz="1400" spc="-1" strike="noStrike">
                <a:solidFill>
                  <a:srgbClr val="292934"/>
                </a:solidFill>
                <a:latin typeface="Georgia"/>
              </a:rPr>
              <a:t> – контролирует; </a:t>
            </a:r>
            <a:r>
              <a:rPr b="1" lang="ru-RU" sz="1400" spc="-1" strike="noStrike">
                <a:solidFill>
                  <a:srgbClr val="292934"/>
                </a:solidFill>
                <a:latin typeface="Georgia"/>
              </a:rPr>
              <a:t>М</a:t>
            </a:r>
            <a:r>
              <a:rPr b="0" lang="ru-RU" sz="1400" spc="-1" strike="noStrike">
                <a:solidFill>
                  <a:srgbClr val="292934"/>
                </a:solidFill>
                <a:latin typeface="Georgia"/>
              </a:rPr>
              <a:t> – осуществляет мониторинг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3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МАТРИЦА ОТВЕТСТВЕННОСТИ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Номер слайда 6"/>
          <p:cNvSpPr/>
          <p:nvPr/>
        </p:nvSpPr>
        <p:spPr>
          <a:xfrm>
            <a:off x="7993080" y="54000"/>
            <a:ext cx="115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7A6B-D5E0-4677-BEB3-C5DF94D8657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133200"/>
            <a:ext cx="8282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Описание ситуации «Как Есть»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2" name="TextBox 4"/>
          <p:cNvSpPr/>
          <p:nvPr/>
        </p:nvSpPr>
        <p:spPr>
          <a:xfrm>
            <a:off x="179280" y="765000"/>
            <a:ext cx="83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Georgia"/>
              </a:rPr>
              <a:t>Тезисное описание  и параметров в соответствующей области до начала реализации проекта, желательно дополнительное размещение изображений, графиков и таблиц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3" name="TextBox 1"/>
          <p:cNvSpPr/>
          <p:nvPr/>
        </p:nvSpPr>
        <p:spPr>
          <a:xfrm>
            <a:off x="395280" y="191772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Georgi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28D9-8EAC-4D21-BEC4-5236887DD0F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5" name="TextBox 2"/>
          <p:cNvSpPr/>
          <p:nvPr/>
        </p:nvSpPr>
        <p:spPr>
          <a:xfrm>
            <a:off x="287280" y="765000"/>
            <a:ext cx="85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Georgia"/>
              </a:rPr>
              <a:t>Тезисное описание измененных параметров и ситуации в соответствующей области после окончания проекта, желательно дополнительное размещение изображений, графиков и таблиц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395280" y="190656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Georgi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539640" y="133200"/>
            <a:ext cx="828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Описание ситуации «Как Будет»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AA03-86C8-4880-9C60-AE32BE16AE7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79280" y="692280"/>
          <a:ext cx="8496360" cy="5906880"/>
        </p:xfrm>
        <a:graphic>
          <a:graphicData uri="http://schemas.openxmlformats.org/drawingml/2006/table">
            <a:tbl>
              <a:tblPr/>
              <a:tblGrid>
                <a:gridCol w="2081160"/>
                <a:gridCol w="6415200"/>
              </a:tblGrid>
              <a:tr h="1944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Цель проекта: 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Georgia"/>
                          <a:ea typeface="Arial"/>
                        </a:rPr>
                        <a:t>Цель, которую необходимо достичь по факту окончания проекта.  Цель направляется на пользователей проекта и должна быть: конкретная и понятная; – измеримая (содержать цифры); достижимая; в зоне ответственности и влияния команды проекта на 100%; определена на указанную в цели дату окончания проекта.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Результат проекта: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Georgia"/>
                          <a:ea typeface="Arial"/>
                        </a:rPr>
                        <a:t>Имущественный либо неимущественный результат, который должен быть достигнут по факту достижения цели проекта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Требования к результату: 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Georgia"/>
                          <a:ea typeface="Arial"/>
                        </a:rPr>
                        <a:t>Требования к результату проекта, которые будут учитываться при определении достижения данных результатов. Определяют качественные характеристики результата проекта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Пользователи результата проекта: 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Georgia"/>
                          <a:ea typeface="Arial"/>
                        </a:rPr>
                        <a:t>Круг потребителей (область применения) результатов проекта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ЦЕЛИ И РЕЗУЛЬТАТ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"/>
          <p:cNvGraphicFramePr/>
          <p:nvPr/>
        </p:nvGraphicFramePr>
        <p:xfrm>
          <a:off x="324000" y="907920"/>
          <a:ext cx="8712000" cy="5185080"/>
        </p:xfrm>
        <a:graphic>
          <a:graphicData uri="http://schemas.openxmlformats.org/drawingml/2006/table">
            <a:tbl>
              <a:tblPr/>
              <a:tblGrid>
                <a:gridCol w="457200"/>
                <a:gridCol w="6252840"/>
                <a:gridCol w="1052640"/>
                <a:gridCol w="949320"/>
              </a:tblGrid>
              <a:tr h="3366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Социальная эффектив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.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Охват сотрудников (студентов) социальными благами за 1 год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.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Georgia"/>
                          <a:ea typeface="Calibri"/>
                        </a:rPr>
                        <a:t>Участие сотрудников (студентов) в мероприятиях проекта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Научно-исследовательская (учебная)  эффектив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2.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Количество студентов, охваченных образовательной программой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2.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Количество планируемых патентов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2.3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Количество научных статей (материалов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Экономическая эффектив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3.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Годовой объем выручки *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3.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Годовой объем прибыли *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3.3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Рентабельность инвестиций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%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3.4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Срок окупаемости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3.5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Объем инвестиций в основной капитал ВУЗа в рамках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4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Иные показатели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Прямоугольник 6"/>
          <p:cNvSpPr/>
          <p:nvPr/>
        </p:nvSpPr>
        <p:spPr>
          <a:xfrm>
            <a:off x="1332000" y="6459480"/>
            <a:ext cx="69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34"/>
                </a:solidFill>
                <a:latin typeface="Arial"/>
              </a:rPr>
              <a:t>*  Рассчитывается после выхода хозяйствующего субъекта на проектную мощность 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43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ПОКАЗАТЕЛИ ЭФФЕКТИВНОСТИ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CF7F-9E7F-49B4-B39E-74CD2990BD9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08000" y="836640"/>
          <a:ext cx="8785080" cy="5483160"/>
        </p:xfrm>
        <a:graphic>
          <a:graphicData uri="http://schemas.openxmlformats.org/drawingml/2006/table">
            <a:tbl>
              <a:tblPr/>
              <a:tblGrid>
                <a:gridCol w="439560"/>
                <a:gridCol w="1511280"/>
                <a:gridCol w="895320"/>
                <a:gridCol w="976320"/>
                <a:gridCol w="890640"/>
                <a:gridCol w="254160"/>
                <a:gridCol w="253800"/>
                <a:gridCol w="255600"/>
                <a:gridCol w="254160"/>
                <a:gridCol w="255600"/>
                <a:gridCol w="253800"/>
                <a:gridCol w="252720"/>
                <a:gridCol w="255600"/>
                <a:gridCol w="253800"/>
                <a:gridCol w="255600"/>
                <a:gridCol w="254160"/>
                <a:gridCol w="253800"/>
                <a:gridCol w="255600"/>
                <a:gridCol w="254160"/>
                <a:gridCol w="255600"/>
                <a:gridCol w="253800"/>
              </a:tblGrid>
              <a:tr h="59940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№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Длит-ть, дн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начала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Дата окончания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1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 год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2 год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1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2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3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4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5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6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7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8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9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0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1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2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1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2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3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04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2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3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4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5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6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7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8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201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TextBox 5"/>
          <p:cNvSpPr/>
          <p:nvPr/>
        </p:nvSpPr>
        <p:spPr>
          <a:xfrm>
            <a:off x="1258920" y="6319800"/>
            <a:ext cx="77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92934"/>
                </a:solidFill>
                <a:latin typeface="Georgia"/>
              </a:rPr>
              <a:t>* - завершенные блоки работ  закрашиваются зеленым цветом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47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ОСНОВНЫЕ БЛОКИ РАБОТ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BA58-B0D1-469C-B14C-822BD967276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250920" y="920880"/>
          <a:ext cx="8642160" cy="4182840"/>
        </p:xfrm>
        <a:graphic>
          <a:graphicData uri="http://schemas.openxmlformats.org/drawingml/2006/table">
            <a:tbl>
              <a:tblPr/>
              <a:tblGrid>
                <a:gridCol w="444240"/>
                <a:gridCol w="3635640"/>
                <a:gridCol w="960480"/>
                <a:gridCol w="1180800"/>
                <a:gridCol w="739800"/>
                <a:gridCol w="932040"/>
                <a:gridCol w="749160"/>
              </a:tblGrid>
              <a:tr h="456840"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№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Бюджет проекта,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Собственные средства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Привлеченные средства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Бюджет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Внебюджет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Указываются наименования основных блоков работ проекта,  (повторяются с предыдущего слайда)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2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3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4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5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6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7200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БЮДЖЕТ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103C-650C-42BA-893E-078B5FA1A20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539640" y="836640"/>
          <a:ext cx="8496360" cy="4968720"/>
        </p:xfrm>
        <a:graphic>
          <a:graphicData uri="http://schemas.openxmlformats.org/drawingml/2006/table">
            <a:tbl>
              <a:tblPr/>
              <a:tblGrid>
                <a:gridCol w="347760"/>
                <a:gridCol w="1671480"/>
                <a:gridCol w="1652760"/>
                <a:gridCol w="2805120"/>
                <a:gridCol w="2019240"/>
              </a:tblGrid>
              <a:tr h="1065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№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Риск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Ожидаемые последствия наступления риска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Мероприятия по предупреждению наступления риска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Действия в случае наступления риска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918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1.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Описание события, которое может оказать влияние на реализацию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Описание последствий для проекта, возникших в результате наступления события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1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Перечень мероприятий, направленных на предотвращение наступления события (в дальнейшем данные мероприятия должны найти отражение в контрольных событиях, основных блоках работ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Перечень мероприятий, предпринимаемых в случае  наступления события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Georgia"/>
                          <a:ea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1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34"/>
                          </a:solidFill>
                          <a:latin typeface="Georgia"/>
                          <a:ea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1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Заголовок 1"/>
          <p:cNvSpPr/>
          <p:nvPr/>
        </p:nvSpPr>
        <p:spPr>
          <a:xfrm>
            <a:off x="539640" y="44280"/>
            <a:ext cx="8280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РИСКИ 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E6A0-6DD3-4784-B341-2E0642C45E2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79280" y="836640"/>
          <a:ext cx="8856720" cy="4680000"/>
        </p:xfrm>
        <a:graphic>
          <a:graphicData uri="http://schemas.openxmlformats.org/drawingml/2006/table">
            <a:tbl>
              <a:tblPr/>
              <a:tblGrid>
                <a:gridCol w="435240"/>
                <a:gridCol w="2903400"/>
                <a:gridCol w="2614680"/>
                <a:gridCol w="2903400"/>
              </a:tblGrid>
              <a:tr h="744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№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Роль в проекте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ФИО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Должность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Руководитель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  <a:ea typeface="Arial"/>
                        </a:rPr>
                        <a:t>Куратор  проекта (проректор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  <a:ea typeface="Arial"/>
                        </a:rPr>
                        <a:t>Администратор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Исполнитель 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Исполнитель 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6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Исполнитель </a:t>
                      </a:r>
                      <a:r>
                        <a:rPr b="0" lang="en-US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N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7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Подрядчик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Georgia"/>
                        </a:rPr>
                        <a:t>8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Georgia"/>
                        </a:rPr>
                        <a:t>Эксперт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Georgia"/>
              </a:rPr>
              <a:t>КОМАНДА 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4:03:02Z</dcterms:created>
  <dc:creator>Admin</dc:creator>
  <dc:description/>
  <dc:language>en-US</dc:language>
  <cp:lastModifiedBy>User</cp:lastModifiedBy>
  <cp:lastPrinted>2001-08-23T14:02:36Z</cp:lastPrinted>
  <dcterms:modified xsi:type="dcterms:W3CDTF">2015-03-03T11:57:49Z</dcterms:modified>
  <cp:revision>1676</cp:revision>
  <dc:subject/>
  <dc:title>Презентация PowerPoint</dc:title>
</cp:coreProperties>
</file>